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789E3-2495-407C-A33E-858900138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B930-EC86-40EF-B227-F5BAAC6B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BB7C0-FC87-414C-9C0F-D37142D25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D9D71-AAAB-4B50-86B0-9B84E2470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18E1D-E32C-4DD2-8B42-EE5522214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E849-390E-4406-BAB8-035D3BD2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A12DE-1E9B-4E66-8CBB-23F65B9D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F0B76-DB47-4313-8567-A3EAA13B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3A920-B571-42B2-998C-7969ED96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0214-109F-44F4-B6B0-15207BBFB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49265-89AA-4570-91BC-41170F47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351B-6A21-47AD-AF46-60F78E103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48AA4-0488-4522-A56B-BD3EB0D2C97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50CBE-234D-42D9-938C-93F55D56B3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Havilland  Mosquito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mossieb_loading.jpg"/>
          <p:cNvPicPr/>
          <p:nvPr/>
        </p:nvPicPr>
        <p:blipFill>
          <a:blip r:embed="rId1"/>
          <a:stretch/>
        </p:blipFill>
        <p:spPr>
          <a:xfrm>
            <a:off x="0" y="3200400"/>
            <a:ext cx="914400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nks for watching this slide by: Briggs Ascione, and Keeley Hillm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osquito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osquito was the first Bomber in the world to ever be made of wood.</a:t>
            </a:r>
            <a:endParaRPr b="0" lang="en-US" sz="3200" spc="-1" strike="noStrike">
              <a:solidFill>
                <a:srgbClr val="000000"/>
              </a:solidFill>
              <a:latin typeface="Calibri"/>
            </a:endParaRPr>
          </a:p>
        </p:txBody>
      </p:sp>
      <p:pic>
        <p:nvPicPr>
          <p:cNvPr id="46" name="Picture 3" descr="007momkIV.jpg"/>
          <p:cNvPicPr/>
          <p:nvPr/>
        </p:nvPicPr>
        <p:blipFill>
          <a:blip r:embed="rId1"/>
          <a:stretch/>
        </p:blipFill>
        <p:spPr>
          <a:xfrm>
            <a:off x="1523880" y="2862360"/>
            <a:ext cx="5715000" cy="32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tory</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mber was built in Britain and flown by both Canadian and British air men.</a:t>
            </a:r>
            <a:endParaRPr b="0" lang="en-US" sz="3200" spc="-1" strike="noStrike">
              <a:solidFill>
                <a:srgbClr val="000000"/>
              </a:solidFill>
              <a:latin typeface="Calibri"/>
            </a:endParaRPr>
          </a:p>
        </p:txBody>
      </p:sp>
      <p:pic>
        <p:nvPicPr>
          <p:cNvPr id="49" name="Picture 3" descr="200807-just-flight-mosquito-4.jpg"/>
          <p:cNvPicPr/>
          <p:nvPr/>
        </p:nvPicPr>
        <p:blipFill>
          <a:blip r:embed="rId1"/>
          <a:stretch/>
        </p:blipFill>
        <p:spPr>
          <a:xfrm>
            <a:off x="228600" y="2590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it Fli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ing was like a Knife that cut through the air and made the air circle it which made the air go around it’s wooden wing which made the plane reach speeds up to  450-500 mph.</a:t>
            </a:r>
            <a:endParaRPr b="0" lang="en-US" sz="3200" spc="-1" strike="noStrike">
              <a:solidFill>
                <a:srgbClr val="000000"/>
              </a:solidFill>
              <a:latin typeface="Calibri"/>
            </a:endParaRPr>
          </a:p>
        </p:txBody>
      </p:sp>
      <p:sp>
        <p:nvSpPr>
          <p:cNvPr id="52" name="Manual Input 3"/>
          <p:cNvSpPr/>
          <p:nvPr/>
        </p:nvSpPr>
        <p:spPr>
          <a:xfrm>
            <a:off x="4267080" y="4321080"/>
            <a:ext cx="822600" cy="824040"/>
          </a:xfrm>
          <a:prstGeom prst="flowChartManualInpu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Curved Down Arrow 5"/>
          <p:cNvSpPr/>
          <p:nvPr/>
        </p:nvSpPr>
        <p:spPr>
          <a:xfrm>
            <a:off x="4267080" y="34290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21600"/>
                </a:moveTo>
                <a:arcTo wR="6750" hR="21600" stAng="10800000" swAng="5400000"/>
                <a:lnTo>
                  <a:pt x="12150" y="0"/>
                </a:lnTo>
                <a:arcTo wR="6750" hR="21600" stAng="-5400000" swAng="3026114"/>
                <a:lnTo>
                  <a:pt x="21386" y="16200"/>
                </a:lnTo>
                <a:lnTo>
                  <a:pt x="16200" y="21600"/>
                </a:lnTo>
                <a:lnTo>
                  <a:pt x="10586" y="16200"/>
                </a:lnTo>
                <a:lnTo>
                  <a:pt x="13286" y="16200"/>
                </a:lnTo>
                <a:arcTo wR="6750" hR="21600" stAng="-2373886" swAng="-2560128"/>
                <a:lnTo>
                  <a:pt x="9450" y="1803"/>
                </a:lnTo>
                <a:arcTo wR="6750" hR="21600" stAng="-5865986" swAng="-4934014"/>
                <a:close/>
              </a:path>
              <a:path fill="darkenLess" w="21600" h="21600">
                <a:moveTo>
                  <a:pt x="0" y="21600"/>
                </a:moveTo>
                <a:arcTo wR="6750" hR="21600" stAng="10800000" swAng="5400000"/>
                <a:lnTo>
                  <a:pt x="6750" y="0"/>
                </a:lnTo>
                <a:arcTo wR="6750" hR="21600" stAng="-5400000" swAng="465986"/>
                <a:lnTo>
                  <a:pt x="9450" y="1803"/>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Curved Up Arrow 6"/>
          <p:cNvSpPr/>
          <p:nvPr/>
        </p:nvSpPr>
        <p:spPr>
          <a:xfrm>
            <a:off x="4038480" y="50292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it Flie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a:t>
            </a:r>
            <a:endParaRPr b="0" lang="en-US" sz="3200" spc="-1" strike="noStrike">
              <a:solidFill>
                <a:srgbClr val="000000"/>
              </a:solidFill>
              <a:latin typeface="Calibri"/>
            </a:endParaRPr>
          </a:p>
        </p:txBody>
      </p:sp>
      <p:sp>
        <p:nvSpPr>
          <p:cNvPr id="57" name="Manual Input 3"/>
          <p:cNvSpPr/>
          <p:nvPr/>
        </p:nvSpPr>
        <p:spPr>
          <a:xfrm>
            <a:off x="4267080" y="4321080"/>
            <a:ext cx="822600" cy="824040"/>
          </a:xfrm>
          <a:prstGeom prst="flowChartManualInpu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Curved Down Arrow 5"/>
          <p:cNvSpPr/>
          <p:nvPr/>
        </p:nvSpPr>
        <p:spPr>
          <a:xfrm>
            <a:off x="4267080" y="36576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21600"/>
                </a:moveTo>
                <a:arcTo wR="6750" hR="21600" stAng="10800000" swAng="5400000"/>
                <a:lnTo>
                  <a:pt x="12150" y="0"/>
                </a:lnTo>
                <a:arcTo wR="6750" hR="21600" stAng="-5400000" swAng="3026114"/>
                <a:lnTo>
                  <a:pt x="21386" y="16200"/>
                </a:lnTo>
                <a:lnTo>
                  <a:pt x="16200" y="21600"/>
                </a:lnTo>
                <a:lnTo>
                  <a:pt x="10586" y="16200"/>
                </a:lnTo>
                <a:lnTo>
                  <a:pt x="13286" y="16200"/>
                </a:lnTo>
                <a:arcTo wR="6750" hR="21600" stAng="-2373886" swAng="-2560128"/>
                <a:lnTo>
                  <a:pt x="9450" y="1803"/>
                </a:lnTo>
                <a:arcTo wR="6750" hR="21600" stAng="-5865986" swAng="-4934014"/>
                <a:close/>
              </a:path>
              <a:path fill="darkenLess" w="21600" h="21600">
                <a:moveTo>
                  <a:pt x="0" y="21600"/>
                </a:moveTo>
                <a:arcTo wR="6750" hR="21600" stAng="10800000" swAng="5400000"/>
                <a:lnTo>
                  <a:pt x="6750" y="0"/>
                </a:lnTo>
                <a:arcTo wR="6750" hR="21600" stAng="-5400000" swAng="465986"/>
                <a:lnTo>
                  <a:pt x="9450" y="1803"/>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Curved Up Arrow 6"/>
          <p:cNvSpPr/>
          <p:nvPr/>
        </p:nvSpPr>
        <p:spPr>
          <a:xfrm>
            <a:off x="4267080" y="47340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it Flies</a:t>
            </a:r>
            <a:endParaRPr b="0" lang="en-US" sz="4400" spc="-1" strike="noStrike">
              <a:solidFill>
                <a:srgbClr val="000000"/>
              </a:solidFill>
              <a:latin typeface="Calibri"/>
            </a:endParaRPr>
          </a:p>
        </p:txBody>
      </p:sp>
      <p:sp>
        <p:nvSpPr>
          <p:cNvPr id="61" name="Manual Input 3"/>
          <p:cNvSpPr/>
          <p:nvPr/>
        </p:nvSpPr>
        <p:spPr>
          <a:xfrm>
            <a:off x="4267080" y="4321080"/>
            <a:ext cx="822600" cy="824040"/>
          </a:xfrm>
          <a:prstGeom prst="flowChartManualInpu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Curved Down Arrow 5"/>
          <p:cNvSpPr/>
          <p:nvPr/>
        </p:nvSpPr>
        <p:spPr>
          <a:xfrm>
            <a:off x="4267080" y="36576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21600"/>
                </a:moveTo>
                <a:arcTo wR="6750" hR="21600" stAng="10800000" swAng="5400000"/>
                <a:lnTo>
                  <a:pt x="12150" y="0"/>
                </a:lnTo>
                <a:arcTo wR="6750" hR="21600" stAng="-5400000" swAng="3026114"/>
                <a:lnTo>
                  <a:pt x="21386" y="16200"/>
                </a:lnTo>
                <a:lnTo>
                  <a:pt x="16200" y="21600"/>
                </a:lnTo>
                <a:lnTo>
                  <a:pt x="10586" y="16200"/>
                </a:lnTo>
                <a:lnTo>
                  <a:pt x="13286" y="16200"/>
                </a:lnTo>
                <a:arcTo wR="6750" hR="21600" stAng="-2373886" swAng="-2560128"/>
                <a:lnTo>
                  <a:pt x="9450" y="1803"/>
                </a:lnTo>
                <a:arcTo wR="6750" hR="21600" stAng="-5865986" swAng="-4934014"/>
                <a:close/>
              </a:path>
              <a:path fill="darkenLess" w="21600" h="21600">
                <a:moveTo>
                  <a:pt x="0" y="21600"/>
                </a:moveTo>
                <a:arcTo wR="6750" hR="21600" stAng="10800000" swAng="5400000"/>
                <a:lnTo>
                  <a:pt x="6750" y="0"/>
                </a:lnTo>
                <a:arcTo wR="6750" hR="21600" stAng="-5400000" swAng="465986"/>
                <a:lnTo>
                  <a:pt x="9450" y="1803"/>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Curved Up Arrow 6"/>
          <p:cNvSpPr/>
          <p:nvPr/>
        </p:nvSpPr>
        <p:spPr>
          <a:xfrm>
            <a:off x="4267080" y="4734000"/>
            <a:ext cx="822600" cy="822240"/>
          </a:xfrm>
          <a:custGeom>
            <a:avLst/>
            <a:gdLst>
              <a:gd name="textAreaLeft" fmla="*/ 128520 w 822600"/>
              <a:gd name="textAreaRight" fmla="*/ 591480 w 822600"/>
              <a:gd name="textAreaTop" fmla="*/ 110160 h 822240"/>
              <a:gd name="textAreaBottom" fmla="*/ 712080 h 82224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n F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the end of world war 2 Canada had produced 4000 Misquo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control it</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control it you have to have a good feel for the stick and the rudders when you want to turn left you take the stick to the left flip the left rudder down and the right one up to turn right it’s visa versa to slow it down you turn on the air brakes and flip both rudders down. To turn it on it’s belly take your stick and pull up then start pulling really hard left and then you should be on your bel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erence Pag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got all of our information at: Goog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9:14:15Z</dcterms:created>
  <dc:creator>keeley.hillmer</dc:creator>
  <dc:description/>
  <dc:language>en-US</dc:language>
  <cp:lastModifiedBy>keeley.hillmer</cp:lastModifiedBy>
  <dcterms:modified xsi:type="dcterms:W3CDTF">2009-03-26T20:06:40Z</dcterms:modified>
  <cp:revision>10</cp:revision>
  <dc:subject/>
  <dc:title>The Havillan  Misquito </dc:title>
</cp:coreProperties>
</file>